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8111-2A69-44E6-BB7F-487F010D5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DEB1-0B8A-426D-AB23-2D82CF780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3ED1-EF25-4BE3-98D3-E93F7C9FE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CADB-F5E4-4960-9BD6-DA49626C9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14D7-A5C9-4FB4-9708-F7A384015C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D821E-776D-4081-B204-C54B6A2C1D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521B-C6F3-4AA3-A21C-CF91020614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BD850-45F8-4F75-9E33-5D5DE82755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6CAA-A332-4B6E-82B5-83B7020935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12E1-D719-4A30-B250-CF1E1BDFD4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AF3C-6D35-4380-B2A2-C1A1CCD3FC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5A2F-E064-4D30-86D6-29A534588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F6BE9-C896-4B34-B0CF-D0CBA56EE3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286E-B34F-4B56-A3E8-5A420325CD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F837-2EB4-4CA7-89D1-89AAB97B26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1311-C80B-48CE-8E3D-204200B636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267DE-3620-4128-A6E9-8276C18414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21CE-AFF6-40E4-A930-0A05FE71C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FAD3-355C-4135-BC04-8A616F249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F251-502D-41FA-ADEA-C27FA6B52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F138-1913-4B21-BBA6-72FD9E399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0506-565F-4ED1-AD2F-3FFEDE064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9B7F-052D-4F2A-93F9-EAB44B8AF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DC67-BC9F-445E-9A7B-453EACF5D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06668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762120"/>
            <a:ext cx="510552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5400000">
            <a:off x="4844880" y="-3075840"/>
            <a:ext cx="127080" cy="7953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2a4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 rot="5400000">
            <a:off x="4704480" y="-2768760"/>
            <a:ext cx="127080" cy="7846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992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6901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D56E-B170-4590-B133-C407D9561FDC}" type="slidenum">
              <a:rPr b="0" lang="tr-TR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d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61A7-3300-4721-A92A-461379A739B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1700280"/>
            <a:ext cx="67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AS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ZORUNLU DEPRE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İGORTAS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*4 Nisan 2006 tarihinde Türkiye Bankalar Birliği’nde yapılan değerlendirme toplantısında yapılan sunumdur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B0FD-767A-4DA5-8BB8-AF05DEE15D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26920" y="1557360"/>
          <a:ext cx="7921800" cy="2808360"/>
        </p:xfrm>
        <a:graphic>
          <a:graphicData uri="http://schemas.openxmlformats.org/drawingml/2006/table">
            <a:tbl>
              <a:tblPr/>
              <a:tblGrid>
                <a:gridCol w="1984680"/>
                <a:gridCol w="1136520"/>
                <a:gridCol w="984240"/>
                <a:gridCol w="1152360"/>
                <a:gridCol w="1440000"/>
                <a:gridCol w="1224000"/>
              </a:tblGrid>
              <a:tr h="59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BÖLGELER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OPLAM 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İGORTAL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ENETRASYON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ORANLARI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EMİNA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İM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AK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663.12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6.97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1,84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.259.564.37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.505.465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11.78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8.65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,5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17.001.04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741.523,3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EGE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318.26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56.64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,7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358.561.38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39.377.092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GÜNEY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742.86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4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,2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901.670.6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23.561,4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ARA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282.09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62.65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,6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.390.042.35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.489.301,2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MARMARA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143.47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155.6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7,8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61.536.10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9.730.205,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İÇ ANADOL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227.05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45.46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0,0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654.751.5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4.391.184,3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ÜRKİYE GENE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2.988.66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2.522.73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9,42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00.743.127.4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73.658.333,2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rot="16200000">
            <a:off x="-2224800" y="3672360"/>
            <a:ext cx="5375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Bölgelere göre Penatrasyon oranları%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C3C3-BE5B-4E3B-B5CC-B6FEEF82B6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MİNAT KAPSAMI VE LİMİT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apsama giren konutlar içi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ang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infilak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er kaymas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rdiği zararl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2126160" y="3861360"/>
            <a:ext cx="511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9424-9A72-4AB2-BBD5-B24FD4E81F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3413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gortalı binalarda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meller, ana duva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ğımsız bölümleri ayıran ortak duvarlar, tavan ve taban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rdivenler, sahanlıklar, korido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Çatılar ve bacalarda meydana gelenler de dahil olmak üz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 doğrudan neden olacağı maddi zararlar sigorta bedeline kadar teminat altına alınmaktadı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2398320" y="3956040"/>
            <a:ext cx="5479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661A-E276-43F5-BA22-71A27D4B73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763640" y="2349360"/>
          <a:ext cx="6048000" cy="2822400"/>
        </p:xfrm>
        <a:graphic>
          <a:graphicData uri="http://schemas.openxmlformats.org/drawingml/2006/table">
            <a:tbl>
              <a:tblPr/>
              <a:tblGrid>
                <a:gridCol w="4043880"/>
                <a:gridCol w="2004120"/>
              </a:tblGrid>
              <a:tr h="90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igorta Bedel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2 fiyat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Çelik,Betonarme,Kark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Yığma Kagi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ğer Yapıl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5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0F19-B733-4038-A8D9-A6ABF7EED6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715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DASK tarafından verilen azami teminat tutarı 2006 yılı için 100.000 YTL olarak belirlenmişt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zami teminat tutarının tespitinde mevcut yapı stokunun büyük bir kısmını oluşturan binaların yeniden inşa bedeli (arsa değeri hariç) dikkate alınmaktadır.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ğer meskenin değeri DASK tarafından verilen teminat tutarını aşıyorsa sigortalı, aşan kısım için sigorta şirketlerinden isteğe bağlı olarak ek teminat alabilmekted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1693800" y="4294080"/>
            <a:ext cx="43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8E0F-47A7-494D-A29C-060BBE97ED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271520"/>
            <a:ext cx="7848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Primlerin Tespiti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igorta primi tutarını 3 faktör belirlemektedi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bulunduğu deprem risk bölges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yapı tarzı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meskenin brüt yüzölçüm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4438800" y="28796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4438800" y="31543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-4438800" y="3429000"/>
            <a:ext cx="104760" cy="10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472C-48A3-408B-8995-D75A738805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15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nce sigorta bedeli bulunur ve daha sonra bu bedel aşağıdaki tabloda gösterilen tarife fiyatıyla çarpılı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Buna göre, ödenmesi gereken prim tutarı, Zorunlu Deprem Sigortası Tarife ve Talimatında belirlendiği üzere; yapı tarzına göre her yıl tespit edilen birim metrekare maliyetler ve meskenin brüt yüzölçümünün çarpımı sonucu bulunan sigorta bedeli ile tarife fiyatının çarpımı suretiyle hesaplanmaktadır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RNEK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 metrekare, birinci derecede deprem bölgesinde bulunan betonarme bir konutun sigorta bedeli ve sigorta primi şu şekilde hesaplanır: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Bedeli = brüt yüzölçüm x birim metrekare maliyeti (betonarme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100 x 410 YTL = 41.000 YTL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Primi = sigorta bedeli x tarife fiyatı + maktu prim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41.000 YTL x 0.0022 + 10 YTL maktu prim =100,20 YTL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2045880" y="361008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4E41-FEA9-40D8-B9F7-406375336B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15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 u="sng">
                <a:solidFill>
                  <a:srgbClr val="003366"/>
                </a:solidFill>
                <a:uFillTx/>
                <a:latin typeface="Arial"/>
              </a:rPr>
              <a:t>Poliçe yenilemelerinin takib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15 Aralık 2005 tarihinden itibaren geçmiş 60 güne ait yenilenmeyen v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60 gün ileriye dönük vadesi dolacak poliçeler içi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Günlük olarak yenilenen poliçeler, gün sonlarında bu data ve listelerde güncellen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Önemli noktala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B1C5-A981-49E7-BBD4-DC74C35420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1268280"/>
            <a:ext cx="748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ZORUNLU DEPREM SİGORTASINA DAİR KANUN HÜKMÜNDE KARARNAME</a:t>
            </a: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Zorunlu deprem sigortasının düzenlenmesi, Bakanlar Kurulu’nca 25.11.1999 tarihinde kararlaştırılmıştı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27 Eylül 2000 tarihinden itibaren kapsam dahilindeki meskenler için deprem sigortası yaptırmak zorunlu hale getirild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Sigorta yapmak ve bu Kanun Hükmünde Kararname ile kendisine verilen diğer görevleri yerine getirmek üzere, Bakanlık nezdinde kamu tüzel kişiliğini haiz “Doğal Afet Sigortaları Kurumu” kurulmuştu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2607840" y="34092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87 sayılı Kanun Hükmündeki Karar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1E00-AF34-44C5-AC96-0147275561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119700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Kapsamdaki konutları, depreme karşı sigortala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Sigorta sistemini kullanarak devletin depremlerden kaynaklanan mali yükünü azaltmak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hasarlarının karşılanmasında uzun vadeli kaynak birikimini temin etme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riskini sigorta yoluyla uluslararası reasürans ve sermaye piyasalarına dağıt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Toplumda sigorta bilincinin gelişmesine katkıda bulunma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773080" y="3334680"/>
            <a:ext cx="6226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DASK’ın Amacı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1323-5749-44EC-B94E-56CDE4403C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00000" y="1628640"/>
            <a:ext cx="82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Zorunlu Deprem sigortas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25 Sigorta Şirket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v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bu şirketlere bağlı Banka şubeleri 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acenteler tarafından düzenlenmektedir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382D-1363-43C7-80D2-085057A746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runlu Deprem Sigortası, genel anlamda,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elediye sınırları içinde kalan meskenle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önelik olarak oluşturulan bir sigorta sistemidi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puya kayıtlı ve özel mülkiyete tabi taşınmazlar üzerinde mesken olarak inşa edilmiş binalar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34 sayılı Kat Mülkiyeti Kanunu kapsamındaki bağımsız bölümler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 binaların içinde yer alan ve ticarethane, büro ve benzeri amaçlarla kullanılan bağımsız bölüml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2003760" y="3883320"/>
            <a:ext cx="497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CBD6-500E-423E-AC58-D93EFBC39F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871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ğal afetler nedeniyle Devlet tarafından yaptırılan veya verilen kredi ile yapılan meskenl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ukarıdaki koşullara uyan, kat irtifakı tesis edilmiş binalar, tapuda henüz cins tashihi yapılmamış ve tapu kütüğünde vasfı "arsa vs." olarak görünen binalar, tapu tahsisi henüz yapılmamış kooperatif evl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nüz bağımsız tapusu olmayan meskenlerin sigortası, sigorta ettirenin beyanına dayanarak ve arsa tapusuna ait bilgilerle yapılabil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057040" y="3936600"/>
            <a:ext cx="497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2519-557B-4D3F-9039-B2DACDD791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99640" y="1241280"/>
            <a:ext cx="7643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3366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amu kurum ve kuruluşlarına ait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öy yerleşim alanlarında yapılan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mamı ticari ve sinai amaçlar için kullanılan binalar (iş hanı, iş merkezi, idari hizmet binaları, eğitim merkezi binaları vs.)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İnşaatı henüz tamamlanmamış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7 Aralık 1999 tarihinden sonra mesken olarak inşa edilmiş olan ancak ilgili mevzuat çerçevesinde inşaat ruhsatı bulunmayan bağımsız bölümler ve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puya kayıtlı bulunmayan ve özel mülkiyete tabi olmayan arazi ve arsaların -hazine arazileri vb.- üzerine inşa edilmiş binal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1751400" y="4207680"/>
            <a:ext cx="4400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00FD-8885-42C5-B2FB-FEE5CE580B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Yıllara göre poliçe üretimler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1341360"/>
          <a:ext cx="7921800" cy="2184480"/>
        </p:xfrm>
        <a:graphic>
          <a:graphicData uri="http://schemas.openxmlformats.org/drawingml/2006/table">
            <a:tbl>
              <a:tblPr/>
              <a:tblGrid>
                <a:gridCol w="2649600"/>
                <a:gridCol w="1808280"/>
                <a:gridCol w="1654200"/>
                <a:gridCol w="18097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ari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çe adedi (Bin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det artış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7.09 -31.12.2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.7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.5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5.7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5.6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26.2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.0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1.01 -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.03.20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4.3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5.4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1280" y="3616200"/>
          <a:ext cx="813744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616200"/>
                    <a:ext cx="813744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C346-00E6-4857-8B16-E58EEBAD85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126828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oliçe Adedi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.522.73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Teminat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.743.127.445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rim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3.658.333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Teminat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9.934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Prim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69.-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ıllık Artış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,4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enileme Oranı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Dosyası(2000’den it.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8.13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Tutarı(YTL)(2000’den it.)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5.620.726.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2568600" y="35593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evcut Durum / 31 Mart 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0640-E34D-4671-973B-BFDBF8A671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3:34:48Z</dcterms:created>
  <dc:creator>tibety</dc:creator>
  <dc:description/>
  <dc:language>en-US</dc:language>
  <cp:lastModifiedBy>mumcum</cp:lastModifiedBy>
  <dcterms:modified xsi:type="dcterms:W3CDTF">2006-04-07T06:28:11Z</dcterms:modified>
  <cp:revision>80</cp:revision>
  <dc:subject/>
  <dc:title>Slide 1</dc:title>
</cp:coreProperties>
</file>